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D2F16-57AB-40D0-A58B-E7238BDC71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E2888-2198-4F00-9537-DA6A539A7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FCC87-525D-4E6C-91B4-61B1ECB7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1DE8E-DD90-457F-88C1-14823FAD0D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E848F-0C20-446D-86E9-F1341BF98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382AE-EF38-44EB-89BC-1A711FC2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AF39E-1695-419E-B21E-402917F64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FA7CF-93CD-4231-8B3C-FA699952F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0A722-3046-4AE2-B29E-9B79A83D2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A2FAE-6156-484F-A163-5CD538DDA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B2B5E-8518-4349-B753-116827422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C9E1D-AC2C-46EE-8358-8616E7399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5F187-8C48-4512-BD87-B464EF9E2D6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十八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水、电解质、酸碱平衡调节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肺水肿、高钠血症患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心、肺、肾功能不全者或血浆蛋白过低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监测血电解质以及血气分析结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患者的心、肺、肾功能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过程中注意滴速、局部穿刺处情况以及生命体征变化，尤其血压、心率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高渗氯化钠时，滴速应慢，密切观察有无高钠血症出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是细胞内液最主要的阳离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持细胞内液的渗透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正常血清钾浓度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.5~5.5mmol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成人每日需要钾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~3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的主要生理功能是维持细胞的正常代谢、维持细胞内液的渗透压和酸碱平衡、维持神经肌肉应激性、心肌收缩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各种原因引起的低钾血症，洋地黄中毒引起的阵发性心律失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后吸收迅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离子主要经肾排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部分钾自粪便排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少量自唾液、汗腺、胆汁和胰液排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，饭后服用；小儿宜用溶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滴注，须用生理盐水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液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液稀释后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浓度不超过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.4g/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速度不超过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0.75g/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含化、咀嚼或干咽，可引起口腔、食管及胃肠道黏膜损伤，甚至坏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空腹服用时有胃肠道不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能因补钾过多、过快出现高钾血症，甚至导致心搏骤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滴注时易刺激血管引起疼痛或发静脉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一旦外渗可导致局部组织坏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重肾功能损害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任何原因可能并发高钾血症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将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5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氯化钾直接静脉推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格按医嘱补钾，注意剂量、浓度与滴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药期间监测血电解质、心电图、血气分析结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补钾时，尿量不得小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0ml/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过程中注意滴速、局部穿刺处情况以及生命体征变化。一旦出现外渗，应及时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指导患者正确服药，并适当进食富含钾的食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伍禁忌与药物的相互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肾上腺糖皮质激素合用，可降低疗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抗胆碱能药物或非甾体类抗炎镇痛药合用，能加重钾盐对胃肠道的刺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血管紧张素转换酶抑制类药物、环孢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合用，易发生高钾血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肝素合用，不仅易发生高钾血症，还增加胃肠道出血的机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缓释钾能抑制肠道对维生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吸收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保钾利尿药、青霉素钾合用，可导致高钾血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掌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氯化钠、氯化钾、葡萄糖酸钙、碳酸氢钠的药理作用、临床应用、不良反应和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熟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甘油磷酸钠的药理作用、临床应用、不良反应和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乳酸钠、胺丁三醇、氯化胺的作用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正常人血清钙浓度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25~2.50mmol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钙与磷共同参与凝血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调节酶的活性、维持神经和肌肉兴奋性、降低毛细血管和细胞膜的通透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浓度的钙与镁有竞争性拮抗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酸钙能促进骨骼和牙齿的发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主要用于血钙过低引起的低钙抽搐，胆、肠、肾绞痛，甲状旁腺功能低下症，荨麻疹、血管神经性水肿、皮肤瘙痒症，软骨病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还可用于高钾血症、高镁血症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钙剂经小肠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8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自粪便排泄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自肾排泄；少量也由唾液、汗腺、乳汁、胆汁和胰液排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片剂，口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射液，静脉注射，一般将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酸钙用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注射液稀释后缓慢推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对胃肠道有刺激，偶见便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注射时全身发热、皮肤红、注射部位疼痛、血压下降、心动过缓或其他心律失常，晕厥、心搏骤停，若局部外渗，可引起组织坏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钙血症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用洋地黄期间以及停用洋地黄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天内，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儿、肾功能不全、呼吸性酸中毒、呼吸衰竭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监测血清电解质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射时应稀释，并缓慢推注。不可皮下或肌内注射。一旦外渗，及时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饭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服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监测生命体征，尤其是血压和心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用茶水服用，以防影响钙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伍禁忌与药物的相互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雌激素同用，可增加钙的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苯妥英钠同用，可产生不吸收的化合物，影响二者的生物利用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四环素同时口服，影响四环素的吸收，必须间隔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噻嗪类利尿药合用，易发生高钙血症；与其他含钙、镁药物合用，易发生高钙或高镁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硫酸纤维素合用，会降低硫酸纤维素预防高钙血症的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伍禁忌与药物的相互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硫酸镁合用，可形成硫酸钙沉淀，降低两者疗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钙剂静脉注射可降低肌松药（琥珀胆碱除外）的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钙通道阻滞剂合用，血钙可明显增高，而维拉帕米的作用则下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新斯的明合用，能迅速对抗氨基糖苷类抗生素过量引起的呼吸肌麻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洋地黄合用，可增强洋地黄毒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磷多存在于骨骼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磷可以磷脂的形式参与细胞膜的组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参与糖代谢中的糖磷酸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构成膜成分中的磷脂质，是组成细胞内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RN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及许多辅酶的重要成分之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磷参与能量的转换贮藏、输送及体液缓冲功能的调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男性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。阵发性腹痛，伴频繁呕吐，停止排气、排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日。诉口渴，尿少、乏力。拟诊“急性肠梗阻”入院。入院后又呕吐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约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检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3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10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2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P86/60mmH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表情淡漠，呼吸深快，眼窝下陷，口唇干燥，皮肤弹性差，颜面略潮红。腹部见肠型，脐周有广泛的压痛，肠鸣音亢进，膝反射减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用于静脉营养时满足人体每天对磷的需要以及纠正低磷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吸收率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7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主要在空肠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血浆蛋白结合率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2%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90%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磷由肾排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射液，静脉滴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长期用药可引起血磷、血钙浓度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过量可导致高磷血症、低钙血症、肌肉颤动、痉挛、胃肠道不适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重肾功能不全、休克和脱水患者，对本品过敏者忌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监测血清电解质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未经稀释不能注射；稀释后应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内用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控制给药速度，一般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0.36~0.54g/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维生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甲状旁腺激素合用，可促进磷的吸收；降钙素可抑制磷的吸收。与维生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K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伍可出现鹅绒黄色混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碳酸氢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bicarb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纠正代谢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以碱化尿液，防止磺胺结晶对泌尿系统的损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碱化细胞外液，从而治疗高钾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溶液可用于治疗口腔真菌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碳酸氢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bicarb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充血性心力衰竭、肾衰竭、低钾血症等患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常用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% Na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溶液静脉滴注，过快输入可导致高钠血症。与钙剂混合可形成沉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过程中可出现低钾血症、低钙血症、呼吸困难等。应监测血气分析、血电解质、肾功能、血压、心肺功能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乳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lact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纠正酸血症，用于高钾血症或普鲁卡因胺引起的心律失常伴酸血症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碱化尿液，用于尿酸结石、小儿肠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用于肝功能减退、水肿、休克缺氧、心功能不全以及乳酸潴留引起的酸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用过量可致碱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宜用生理盐水或含氯化钠的溶液稀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氨丁三醇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rometamo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代谢性酸中毒，也可用于呼吸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具有穿透细胞速度快又不含钠的优点，适用于限钠的酸中毒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血尿、尿闭、妊娠、肾损害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用于慢性呼吸性酸中毒、肾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氨丁三醇时注意量及速度，大量快速滴注可引起呼吸抑制、低血压、低血糖、低血钙等，且对组织刺激大，可致血栓性静脉炎，一旦外渗可致组织坏死。故应缓慢滴注，注意呼吸情况以及有无低血糖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铵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mon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纠正代谢性碱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过量使用可导致高氯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肝硬化伴代谢性碱中毒或心力衰竭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功能不全时，易导致高氯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大量服用氯化铵可出现恶心、呕吐、腹痛等胃肠道刺激症状，宜用水溶解后服用，溃疡病患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习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静脉输注氯化钾时，应注意保持尿量每小时不能低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验室检查：血清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44m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血清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5 m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H7.3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二氧化碳结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.84 m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医嘱给予补液，溶液包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盐水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溶液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%NaHCO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问题：①医嘱给予患者上述液体的目的是什么？②在补液过程中应注意哪些问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习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大量输注生理盐水可导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高氯性酸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低氯性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高氯性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低钠性酸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高钠性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补充钠离子和氯离子，调节体内水和电解质的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钠是细胞外液最主要的阳离子，正常值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35~145mmol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氯是血浆内主要的阴离子，正常值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98~106mmol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持体液正常渗透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补充血容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局部冲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伤口湿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酶或稀释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胃肠道黏膜细胞的主动转运或静脉注射直接进入血液循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存在于细胞外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小球滤过，由肾随尿排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部分被肾小管重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滴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局部外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水钠潴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氯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外渗可导致局部组织坏死、静脉血栓或静脉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过量口服可导致恶心、呕吐、腹胀、腹泻等胃肠道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渗氯化钠输注过多，可致高钠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8:11:44Z</dcterms:modified>
  <cp:revision>83</cp:revision>
  <dc:subject/>
  <dc:title>内科护理学</dc:title>
</cp:coreProperties>
</file>